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7753-F5A3-45AC-98CD-D1CB711922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C912-9463-4ABF-925F-413CA2ABDEB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098F-195F-44B6-945A-BEDE9D950E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918C-90CE-401A-AC27-BCE0F517A5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070-31E3-41A5-A5C9-31DB248751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D426-80EC-4668-8DFC-13EABE7E3E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FCC9-72FA-4278-B59B-10C09D24D3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236-CFB3-4230-A918-FEE4E9D7B4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3D0B-EBAA-45D9-8828-7422E82BE1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511-E840-4E1B-8A3F-8F0D258CBA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00B-71EC-4CDB-9B63-24A0B0D8E1E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7A4-3348-4830-B260-E597A84942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5EC-43A2-4382-ADEC-8FDC74BD80E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A579-D90C-4397-A8AB-27445267AF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0539-764C-41BD-822E-5DF9145C3A5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330-E419-4C3A-B76F-13DAAE5011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AAA9946D-64AD-45D7-9525-05E48E83FE0B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fld id="{BD7005DE-DA83-4467-A037-D4055F831676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800600" y="658260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：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" spc="-1" strike="noStrike">
                <a:solidFill>
                  <a:srgbClr val="ffffff"/>
                </a:solidFill>
                <a:latin typeface="新細明體"/>
              </a:rPr>
              <a:t>財務管理及策劃／職員成本</a:t>
            </a:r>
            <a:r>
              <a:rPr b="0" lang="zh-CN" sz="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新細明體"/>
                <a:ea typeface="新細明體"/>
              </a:rPr>
              <a:t>	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財務管理及策劃－職員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76520" y="1981080"/>
            <a:ext cx="5333760" cy="19051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847440" y="1270080"/>
            <a:ext cx="586080" cy="1024920"/>
            <a:chOff x="847440" y="1270080"/>
            <a:chExt cx="586080" cy="1024920"/>
          </a:xfrm>
        </p:grpSpPr>
        <p:sp>
          <p:nvSpPr>
            <p:cNvPr id="53" name="Text Box 7"/>
            <p:cNvSpPr/>
            <p:nvPr/>
          </p:nvSpPr>
          <p:spPr>
            <a:xfrm>
              <a:off x="847440" y="1270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imes New Roman"/>
                  <a:ea typeface="新細明體"/>
                </a:rPr>
                <a:t>會計文</a:t>
              </a: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員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1013040" y="1700280"/>
              <a:ext cx="237960" cy="594720"/>
              <a:chOff x="1013040" y="1700280"/>
              <a:chExt cx="237960" cy="594720"/>
            </a:xfrm>
          </p:grpSpPr>
          <p:sp>
            <p:nvSpPr>
              <p:cNvPr id="55" name="Oval 9"/>
              <p:cNvSpPr/>
              <p:nvPr/>
            </p:nvSpPr>
            <p:spPr>
              <a:xfrm>
                <a:off x="1013040" y="170028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 flipH="1">
                <a:off x="1013040" y="19378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1"/>
              <p:cNvSpPr/>
              <p:nvPr/>
            </p:nvSpPr>
            <p:spPr>
              <a:xfrm flipH="1">
                <a:off x="1013040" y="21762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2"/>
              <p:cNvSpPr/>
              <p:nvPr/>
            </p:nvSpPr>
            <p:spPr>
              <a:xfrm>
                <a:off x="1131840" y="193788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3"/>
              <p:cNvSpPr/>
              <p:nvPr/>
            </p:nvSpPr>
            <p:spPr>
              <a:xfrm>
                <a:off x="1131840" y="19378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1131840" y="21762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488160" y="2997360"/>
            <a:ext cx="403200" cy="835200"/>
            <a:chOff x="488160" y="2997360"/>
            <a:chExt cx="403200" cy="835200"/>
          </a:xfrm>
        </p:grpSpPr>
        <p:sp>
          <p:nvSpPr>
            <p:cNvPr id="62" name="Text Box 17"/>
            <p:cNvSpPr/>
            <p:nvPr/>
          </p:nvSpPr>
          <p:spPr>
            <a:xfrm>
              <a:off x="488160" y="355608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校長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8"/>
            <p:cNvGrpSpPr/>
            <p:nvPr/>
          </p:nvGrpSpPr>
          <p:grpSpPr>
            <a:xfrm>
              <a:off x="565200" y="2997360"/>
              <a:ext cx="237960" cy="595440"/>
              <a:chOff x="565200" y="2997360"/>
              <a:chExt cx="237960" cy="595440"/>
            </a:xfrm>
          </p:grpSpPr>
          <p:sp>
            <p:nvSpPr>
              <p:cNvPr id="64" name="Oval 19"/>
              <p:cNvSpPr/>
              <p:nvPr/>
            </p:nvSpPr>
            <p:spPr>
              <a:xfrm>
                <a:off x="565200" y="2997360"/>
                <a:ext cx="237960" cy="23796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0"/>
              <p:cNvSpPr/>
              <p:nvPr/>
            </p:nvSpPr>
            <p:spPr>
              <a:xfrm flipH="1">
                <a:off x="565200" y="323532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1"/>
              <p:cNvSpPr/>
              <p:nvPr/>
            </p:nvSpPr>
            <p:spPr>
              <a:xfrm flipH="1">
                <a:off x="565200" y="347364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2"/>
              <p:cNvSpPr/>
              <p:nvPr/>
            </p:nvSpPr>
            <p:spPr>
              <a:xfrm>
                <a:off x="684000" y="3235320"/>
                <a:ext cx="0" cy="2383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3"/>
              <p:cNvSpPr/>
              <p:nvPr/>
            </p:nvSpPr>
            <p:spPr>
              <a:xfrm>
                <a:off x="684000" y="323532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4"/>
              <p:cNvSpPr/>
              <p:nvPr/>
            </p:nvSpPr>
            <p:spPr>
              <a:xfrm>
                <a:off x="684000" y="347364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4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財務管理及策劃</a:t>
            </a: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7"/>
          <p:cNvGrpSpPr/>
          <p:nvPr/>
        </p:nvGrpSpPr>
        <p:grpSpPr>
          <a:xfrm>
            <a:off x="3613320" y="907920"/>
            <a:ext cx="4811400" cy="5313600"/>
            <a:chOff x="3613320" y="907920"/>
            <a:chExt cx="4811400" cy="5313600"/>
          </a:xfrm>
        </p:grpSpPr>
        <p:grpSp>
          <p:nvGrpSpPr>
            <p:cNvPr id="72" name="Group 36"/>
            <p:cNvGrpSpPr/>
            <p:nvPr/>
          </p:nvGrpSpPr>
          <p:grpSpPr>
            <a:xfrm>
              <a:off x="6184440" y="907920"/>
              <a:ext cx="609840" cy="1076760"/>
              <a:chOff x="6184440" y="907920"/>
              <a:chExt cx="609840" cy="1076760"/>
            </a:xfrm>
          </p:grpSpPr>
          <p:grpSp>
            <p:nvGrpSpPr>
              <p:cNvPr id="73" name="Group 37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74" name="Line 38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39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40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41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42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Text Box 43"/>
              <p:cNvSpPr/>
              <p:nvPr/>
            </p:nvSpPr>
            <p:spPr>
              <a:xfrm>
                <a:off x="630792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44"/>
            <p:cNvSpPr/>
            <p:nvPr/>
          </p:nvSpPr>
          <p:spPr>
            <a:xfrm>
              <a:off x="7153920" y="236376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5"/>
            <p:cNvSpPr/>
            <p:nvPr/>
          </p:nvSpPr>
          <p:spPr>
            <a:xfrm>
              <a:off x="7890480" y="327816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簿記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6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7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8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85" name="Text Box 49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職員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50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87" name="Group 51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88" name="Oval 52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53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54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55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56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57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58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95" name="Oval 59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60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61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62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3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64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5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02" name="Oval 66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67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68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69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70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71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72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09" name="Oval 73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74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75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76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77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78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Text Box 79"/>
            <p:cNvSpPr/>
            <p:nvPr/>
          </p:nvSpPr>
          <p:spPr>
            <a:xfrm>
              <a:off x="6630840" y="54118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固定資產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0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1"/>
            <p:cNvSpPr/>
            <p:nvPr/>
          </p:nvSpPr>
          <p:spPr>
            <a:xfrm>
              <a:off x="5211720" y="594504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2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3"/>
            <p:cNvSpPr/>
            <p:nvPr/>
          </p:nvSpPr>
          <p:spPr>
            <a:xfrm>
              <a:off x="3613320" y="579276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其他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84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85"/>
          <p:cNvSpPr/>
          <p:nvPr/>
        </p:nvSpPr>
        <p:spPr>
          <a:xfrm>
            <a:off x="1905120" y="2590920"/>
            <a:ext cx="228600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1.</a:t>
            </a:r>
            <a:r>
              <a:rPr b="0" lang="en-US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2.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職員檔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3.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薪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4.</a:t>
            </a:r>
            <a:r>
              <a:rPr b="0" lang="zh-TW" sz="1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公積金登記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5.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稅務資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6.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7.</a:t>
            </a: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   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3809880" y="4495680"/>
            <a:ext cx="1676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手增新的調整登記冊紀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2514600" y="5943600"/>
            <a:ext cx="68580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52280" y="6095880"/>
            <a:ext cx="2362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系統增新的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3733920" y="5105520"/>
            <a:ext cx="8380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600200" y="5486400"/>
            <a:ext cx="6934320" cy="28908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600200" y="5791320"/>
            <a:ext cx="6934320" cy="28872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629040"/>
            <a:ext cx="3353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3581280" y="1905120"/>
            <a:ext cx="2667240" cy="1490400"/>
            <a:chOff x="3581280" y="1905120"/>
            <a:chExt cx="2667240" cy="1490400"/>
          </a:xfrm>
        </p:grpSpPr>
        <p:sp>
          <p:nvSpPr>
            <p:cNvPr id="190" name="AutoShape 6"/>
            <p:cNvSpPr/>
            <p:nvPr/>
          </p:nvSpPr>
          <p:spPr>
            <a:xfrm>
              <a:off x="3581280" y="1905120"/>
              <a:ext cx="266724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3581280" y="1905120"/>
              <a:ext cx="266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２步：要增新調整登記冊紀錄，填寫頁面中間部分的公積金登記冊詳細資料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17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19"/>
          <p:cNvGraphicFramePr/>
          <p:nvPr/>
        </p:nvGraphicFramePr>
        <p:xfrm>
          <a:off x="1576440" y="4241880"/>
          <a:ext cx="6958080" cy="17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4241880"/>
                    <a:ext cx="6958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9"/>
          <p:cNvSpPr/>
          <p:nvPr/>
        </p:nvSpPr>
        <p:spPr>
          <a:xfrm>
            <a:off x="1600200" y="4343400"/>
            <a:ext cx="6934320" cy="16002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4876920" y="32767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6629040"/>
            <a:ext cx="3352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13"/>
          <p:cNvSpPr/>
          <p:nvPr/>
        </p:nvSpPr>
        <p:spPr>
          <a:xfrm flipH="1">
            <a:off x="2209320" y="60958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5"/>
          <p:cNvGraphicFramePr/>
          <p:nvPr/>
        </p:nvGraphicFramePr>
        <p:xfrm>
          <a:off x="1576440" y="4241880"/>
          <a:ext cx="6958080" cy="17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4241880"/>
                    <a:ext cx="6958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4"/>
          <p:cNvGrpSpPr/>
          <p:nvPr/>
        </p:nvGrpSpPr>
        <p:grpSpPr>
          <a:xfrm>
            <a:off x="3352680" y="5029200"/>
            <a:ext cx="2667240" cy="1490760"/>
            <a:chOff x="3352680" y="5029200"/>
            <a:chExt cx="2667240" cy="1490760"/>
          </a:xfrm>
        </p:grpSpPr>
        <p:sp>
          <p:nvSpPr>
            <p:cNvPr id="204" name="AutoShape 5"/>
            <p:cNvSpPr/>
            <p:nvPr/>
          </p:nvSpPr>
          <p:spPr>
            <a:xfrm>
              <a:off x="3352680" y="502920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3352680" y="5029200"/>
              <a:ext cx="266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３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增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增新調整登記冊紀錄 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0" y="6095880"/>
            <a:ext cx="2362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公積金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2362320" y="579096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1600200" y="5486400"/>
            <a:ext cx="6934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"/>
          <p:cNvGrpSpPr/>
          <p:nvPr/>
        </p:nvGrpSpPr>
        <p:grpSpPr>
          <a:xfrm>
            <a:off x="3962520" y="4529160"/>
            <a:ext cx="2666880" cy="1490760"/>
            <a:chOff x="3962520" y="4529160"/>
            <a:chExt cx="2666880" cy="1490760"/>
          </a:xfrm>
        </p:grpSpPr>
        <p:sp>
          <p:nvSpPr>
            <p:cNvPr id="214" name="AutoShape 4"/>
            <p:cNvSpPr/>
            <p:nvPr/>
          </p:nvSpPr>
          <p:spPr>
            <a:xfrm>
              <a:off x="3962520" y="4529160"/>
              <a:ext cx="266688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962520" y="452916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４步： 要更新登記冊紀錄，按登記日期的超連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6"/>
          <p:cNvSpPr/>
          <p:nvPr/>
        </p:nvSpPr>
        <p:spPr>
          <a:xfrm flipH="1">
            <a:off x="2742840" y="4876920"/>
            <a:ext cx="12193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00200" y="2438280"/>
            <a:ext cx="693432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6019920" y="153972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頁面中間部分會顯示公積金登記冊詳細資料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 flipH="1">
            <a:off x="5866920" y="2133720"/>
            <a:ext cx="16765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209680" y="4038480"/>
            <a:ext cx="457200" cy="1447920"/>
          </a:xfrm>
          <a:prstGeom prst="upArrow">
            <a:avLst>
              <a:gd name="adj1" fmla="val 50000"/>
              <a:gd name="adj2" fmla="val 7917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600200" y="2438280"/>
            <a:ext cx="6934320" cy="175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 flipH="1">
            <a:off x="5334120" y="1933560"/>
            <a:ext cx="838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6172200" y="1019160"/>
            <a:ext cx="2819520" cy="1571760"/>
            <a:chOff x="6172200" y="1019160"/>
            <a:chExt cx="2819520" cy="1571760"/>
          </a:xfrm>
        </p:grpSpPr>
        <p:sp>
          <p:nvSpPr>
            <p:cNvPr id="228" name="AutoShape 6"/>
            <p:cNvSpPr/>
            <p:nvPr/>
          </p:nvSpPr>
          <p:spPr>
            <a:xfrm>
              <a:off x="6172200" y="1019160"/>
              <a:ext cx="2819520" cy="1571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6172200" y="1019160"/>
              <a:ext cx="281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５步： 要更新公積金登記冊紀錄，在頁面中間輸入公積金登記冊的詳細資料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8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19920" y="4191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3" name="Picture 1037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1027"/>
          <p:cNvGrpSpPr/>
          <p:nvPr/>
        </p:nvGrpSpPr>
        <p:grpSpPr>
          <a:xfrm>
            <a:off x="3352680" y="4038480"/>
            <a:ext cx="2667240" cy="1490760"/>
            <a:chOff x="3352680" y="4038480"/>
            <a:chExt cx="2667240" cy="1490760"/>
          </a:xfrm>
        </p:grpSpPr>
        <p:sp>
          <p:nvSpPr>
            <p:cNvPr id="235" name="AutoShape 1028"/>
            <p:cNvSpPr/>
            <p:nvPr/>
          </p:nvSpPr>
          <p:spPr>
            <a:xfrm>
              <a:off x="3352680" y="403848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029"/>
            <p:cNvSpPr/>
            <p:nvPr/>
          </p:nvSpPr>
          <p:spPr>
            <a:xfrm>
              <a:off x="3352680" y="4038480"/>
              <a:ext cx="266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６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更新公積金登記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031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36"/>
          <p:cNvSpPr/>
          <p:nvPr/>
        </p:nvSpPr>
        <p:spPr>
          <a:xfrm flipH="1" flipV="1">
            <a:off x="2209320" y="434304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1038"/>
          <p:cNvGraphicFramePr/>
          <p:nvPr/>
        </p:nvGraphicFramePr>
        <p:xfrm>
          <a:off x="4614840" y="3581280"/>
          <a:ext cx="360360" cy="1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0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4840" y="3581280"/>
                    <a:ext cx="3603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2" name="Picture 1035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28"/>
          <p:cNvSpPr/>
          <p:nvPr/>
        </p:nvSpPr>
        <p:spPr>
          <a:xfrm>
            <a:off x="5638680" y="3200400"/>
            <a:ext cx="25909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已更新公積金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29"/>
          <p:cNvSpPr/>
          <p:nvPr/>
        </p:nvSpPr>
        <p:spPr>
          <a:xfrm flipH="1">
            <a:off x="5334120" y="3581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30"/>
          <p:cNvSpPr/>
          <p:nvPr/>
        </p:nvSpPr>
        <p:spPr>
          <a:xfrm>
            <a:off x="1600200" y="5486400"/>
            <a:ext cx="6934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31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1036"/>
          <p:cNvGraphicFramePr/>
          <p:nvPr/>
        </p:nvGraphicFramePr>
        <p:xfrm>
          <a:off x="5384880" y="5500800"/>
          <a:ext cx="393480" cy="20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Object 10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4880" y="5500800"/>
                    <a:ext cx="39348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Picture 1038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028"/>
          <p:cNvSpPr/>
          <p:nvPr/>
        </p:nvSpPr>
        <p:spPr>
          <a:xfrm>
            <a:off x="1600200" y="4800600"/>
            <a:ext cx="38088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29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030"/>
          <p:cNvGrpSpPr/>
          <p:nvPr/>
        </p:nvGrpSpPr>
        <p:grpSpPr>
          <a:xfrm>
            <a:off x="3886200" y="4605480"/>
            <a:ext cx="2666880" cy="1490400"/>
            <a:chOff x="3886200" y="4605480"/>
            <a:chExt cx="2666880" cy="1490400"/>
          </a:xfrm>
        </p:grpSpPr>
        <p:sp>
          <p:nvSpPr>
            <p:cNvPr id="254" name="AutoShape 1031"/>
            <p:cNvSpPr/>
            <p:nvPr/>
          </p:nvSpPr>
          <p:spPr>
            <a:xfrm>
              <a:off x="3886200" y="4605480"/>
              <a:ext cx="266688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32"/>
            <p:cNvSpPr/>
            <p:nvPr/>
          </p:nvSpPr>
          <p:spPr>
            <a:xfrm>
              <a:off x="3886200" y="4605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７步： 選擇要刪除的調整登記冊紀錄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1037"/>
          <p:cNvSpPr/>
          <p:nvPr/>
        </p:nvSpPr>
        <p:spPr>
          <a:xfrm flipH="1">
            <a:off x="1981080" y="51814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39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9" name="Picture 3090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076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077"/>
          <p:cNvGrpSpPr/>
          <p:nvPr/>
        </p:nvGrpSpPr>
        <p:grpSpPr>
          <a:xfrm>
            <a:off x="3886200" y="4605480"/>
            <a:ext cx="2666880" cy="1490400"/>
            <a:chOff x="3886200" y="4605480"/>
            <a:chExt cx="2666880" cy="1490400"/>
          </a:xfrm>
        </p:grpSpPr>
        <p:sp>
          <p:nvSpPr>
            <p:cNvPr id="262" name="AutoShape 3078"/>
            <p:cNvSpPr/>
            <p:nvPr/>
          </p:nvSpPr>
          <p:spPr>
            <a:xfrm>
              <a:off x="3886200" y="4605480"/>
              <a:ext cx="266688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079"/>
            <p:cNvSpPr/>
            <p:nvPr/>
          </p:nvSpPr>
          <p:spPr>
            <a:xfrm>
              <a:off x="3886200" y="4605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８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刪除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3080"/>
          <p:cNvSpPr/>
          <p:nvPr/>
        </p:nvSpPr>
        <p:spPr>
          <a:xfrm flipH="1">
            <a:off x="2209320" y="5181480"/>
            <a:ext cx="16765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080" y="658260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退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14400" y="523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員成本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–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公積金登記冊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85800" y="1143000"/>
            <a:ext cx="733104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檢視所有已登記的公積金紀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調整已登記的公積金供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登記從公積金計劃收取的股息／利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登記其他已收／已付雜項金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連接</a:t>
            </a:r>
            <a:r>
              <a:rPr b="1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薪酬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功能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410080" y="36892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352680" y="39783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傳票過帳</a:t>
            </a:r>
            <a:r>
              <a:rPr b="0" i="1" lang="zh-CN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838160" y="39942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薪酬</a:t>
            </a:r>
            <a:r>
              <a:rPr b="0" lang="zh-CN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924440" y="3994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公積金登記冊</a:t>
            </a:r>
            <a:r>
              <a:rPr b="0" lang="zh-CN" sz="1400" spc="-1" strike="noStrike">
                <a:solidFill>
                  <a:srgbClr val="ff0000"/>
                </a:solidFill>
                <a:latin typeface="新細明體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2362320" y="3689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供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3809880" y="388620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公積金登記冊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Object 1041"/>
          <p:cNvGraphicFramePr/>
          <p:nvPr/>
        </p:nvGraphicFramePr>
        <p:xfrm>
          <a:off x="0" y="0"/>
          <a:ext cx="88390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10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103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28"/>
          <p:cNvSpPr/>
          <p:nvPr/>
        </p:nvSpPr>
        <p:spPr>
          <a:xfrm>
            <a:off x="685800" y="304812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選擇的公積金登記冊紀錄已經被刪除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29"/>
          <p:cNvSpPr/>
          <p:nvPr/>
        </p:nvSpPr>
        <p:spPr>
          <a:xfrm>
            <a:off x="1981080" y="36576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30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72" name="Object 1038"/>
          <p:cNvGraphicFramePr/>
          <p:nvPr/>
        </p:nvGraphicFramePr>
        <p:xfrm>
          <a:off x="0" y="914400"/>
          <a:ext cx="883908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10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14400"/>
                    <a:ext cx="88390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1040"/>
          <p:cNvSpPr/>
          <p:nvPr/>
        </p:nvSpPr>
        <p:spPr>
          <a:xfrm flipV="1">
            <a:off x="2057400" y="144756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5"/>
          <p:cNvGrpSpPr/>
          <p:nvPr/>
        </p:nvGrpSpPr>
        <p:grpSpPr>
          <a:xfrm>
            <a:off x="2590920" y="1371600"/>
            <a:ext cx="2895480" cy="1523880"/>
            <a:chOff x="2590920" y="1371600"/>
            <a:chExt cx="2895480" cy="1523880"/>
          </a:xfrm>
        </p:grpSpPr>
        <p:sp>
          <p:nvSpPr>
            <p:cNvPr id="277" name="AutoShape 6"/>
            <p:cNvSpPr/>
            <p:nvPr/>
          </p:nvSpPr>
          <p:spPr>
            <a:xfrm>
              <a:off x="2590920" y="1371600"/>
              <a:ext cx="2895480" cy="15238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590920" y="1371600"/>
              <a:ext cx="289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１步： 按職員代碼的超連結，檢視／修改所選職員的詳細公積金登記冊紀錄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9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19560" y="350496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2057040" y="2895480"/>
            <a:ext cx="152388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25252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3809880" y="4495680"/>
            <a:ext cx="1676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手增新的調整登記冊紀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2514600" y="5943600"/>
            <a:ext cx="68580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152280" y="6095880"/>
            <a:ext cx="2362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系統增新的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3733920" y="5105520"/>
            <a:ext cx="8380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"/>
          <p:cNvSpPr/>
          <p:nvPr/>
        </p:nvSpPr>
        <p:spPr>
          <a:xfrm>
            <a:off x="1600200" y="5486400"/>
            <a:ext cx="6934320" cy="28908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1600200" y="5791320"/>
            <a:ext cx="6934320" cy="28872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0"/>
          <p:cNvGrpSpPr/>
          <p:nvPr/>
        </p:nvGrpSpPr>
        <p:grpSpPr>
          <a:xfrm>
            <a:off x="0" y="0"/>
            <a:ext cx="8763120" cy="6567480"/>
            <a:chOff x="0" y="0"/>
            <a:chExt cx="8763120" cy="6567480"/>
          </a:xfrm>
        </p:grpSpPr>
        <p:pic>
          <p:nvPicPr>
            <p:cNvPr id="299" name="Picture 17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63120" cy="6567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00" name="Object 19"/>
            <p:cNvGraphicFramePr/>
            <p:nvPr/>
          </p:nvGraphicFramePr>
          <p:xfrm>
            <a:off x="1619280" y="3701880"/>
            <a:ext cx="6934320" cy="282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701880"/>
                      <a:ext cx="6934320" cy="282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2" name="Group 5"/>
          <p:cNvGrpSpPr/>
          <p:nvPr/>
        </p:nvGrpSpPr>
        <p:grpSpPr>
          <a:xfrm>
            <a:off x="5638680" y="1600200"/>
            <a:ext cx="2667240" cy="1490760"/>
            <a:chOff x="5638680" y="1600200"/>
            <a:chExt cx="2667240" cy="1490760"/>
          </a:xfrm>
        </p:grpSpPr>
        <p:sp>
          <p:nvSpPr>
            <p:cNvPr id="303" name="AutoShape 6"/>
            <p:cNvSpPr/>
            <p:nvPr/>
          </p:nvSpPr>
          <p:spPr>
            <a:xfrm>
              <a:off x="5638680" y="160020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7"/>
            <p:cNvSpPr/>
            <p:nvPr/>
          </p:nvSpPr>
          <p:spPr>
            <a:xfrm>
              <a:off x="5638680" y="1600200"/>
              <a:ext cx="266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２步： 要增新調整登記冊紀錄，填寫頁面中間部分的公積金登記冊詳細資料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Line 8"/>
          <p:cNvSpPr/>
          <p:nvPr/>
        </p:nvSpPr>
        <p:spPr>
          <a:xfrm>
            <a:off x="7086600" y="3048120"/>
            <a:ext cx="0" cy="965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523880" y="3657600"/>
            <a:ext cx="708660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4"/>
          <p:cNvGrpSpPr/>
          <p:nvPr/>
        </p:nvGrpSpPr>
        <p:grpSpPr>
          <a:xfrm>
            <a:off x="0" y="0"/>
            <a:ext cx="8763120" cy="6567480"/>
            <a:chOff x="0" y="0"/>
            <a:chExt cx="8763120" cy="6567480"/>
          </a:xfrm>
        </p:grpSpPr>
        <p:pic>
          <p:nvPicPr>
            <p:cNvPr id="311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63120" cy="6567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2" name="Object 16"/>
            <p:cNvGraphicFramePr/>
            <p:nvPr/>
          </p:nvGraphicFramePr>
          <p:xfrm>
            <a:off x="1619280" y="3701880"/>
            <a:ext cx="6934320" cy="282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3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3701880"/>
                      <a:ext cx="6934320" cy="282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4" name="Group 2"/>
          <p:cNvGrpSpPr/>
          <p:nvPr/>
        </p:nvGrpSpPr>
        <p:grpSpPr>
          <a:xfrm>
            <a:off x="3352680" y="3843360"/>
            <a:ext cx="2667240" cy="1490760"/>
            <a:chOff x="3352680" y="3843360"/>
            <a:chExt cx="2667240" cy="1490760"/>
          </a:xfrm>
        </p:grpSpPr>
        <p:sp>
          <p:nvSpPr>
            <p:cNvPr id="315" name="AutoShape 3"/>
            <p:cNvSpPr/>
            <p:nvPr/>
          </p:nvSpPr>
          <p:spPr>
            <a:xfrm>
              <a:off x="3352680" y="384336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"/>
            <p:cNvSpPr/>
            <p:nvPr/>
          </p:nvSpPr>
          <p:spPr>
            <a:xfrm>
              <a:off x="3352680" y="3843360"/>
              <a:ext cx="266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３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增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增新調整登記冊紀錄 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7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Line 13"/>
          <p:cNvSpPr/>
          <p:nvPr/>
        </p:nvSpPr>
        <p:spPr>
          <a:xfrm flipH="1">
            <a:off x="2057400" y="4419720"/>
            <a:ext cx="12952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76320" y="605160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新增公積金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 flipV="1">
            <a:off x="2362320" y="5790960"/>
            <a:ext cx="12952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600200" y="5410080"/>
            <a:ext cx="69343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2"/>
          <p:cNvGrpSpPr/>
          <p:nvPr/>
        </p:nvGrpSpPr>
        <p:grpSpPr>
          <a:xfrm>
            <a:off x="3962520" y="4114800"/>
            <a:ext cx="2666880" cy="1490760"/>
            <a:chOff x="3962520" y="4114800"/>
            <a:chExt cx="2666880" cy="1490760"/>
          </a:xfrm>
        </p:grpSpPr>
        <p:sp>
          <p:nvSpPr>
            <p:cNvPr id="328" name="AutoShape 3"/>
            <p:cNvSpPr/>
            <p:nvPr/>
          </p:nvSpPr>
          <p:spPr>
            <a:xfrm>
              <a:off x="3962520" y="4114800"/>
              <a:ext cx="266688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"/>
            <p:cNvSpPr/>
            <p:nvPr/>
          </p:nvSpPr>
          <p:spPr>
            <a:xfrm>
              <a:off x="3962520" y="4114800"/>
              <a:ext cx="266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４步： 要更新登記冊紀錄，按登記日期的超連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5"/>
          <p:cNvSpPr/>
          <p:nvPr/>
        </p:nvSpPr>
        <p:spPr>
          <a:xfrm flipH="1">
            <a:off x="2742840" y="4876920"/>
            <a:ext cx="12193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600200" y="1600200"/>
            <a:ext cx="6934320" cy="243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209680" y="4191120"/>
            <a:ext cx="457200" cy="121896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6095880" y="9216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頁面中間部分會顯示公積金登記冊詳細資料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 flipH="1">
            <a:off x="4419720" y="533520"/>
            <a:ext cx="167616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1600200" y="1600200"/>
            <a:ext cx="693432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 flipH="1">
            <a:off x="4876920" y="1066680"/>
            <a:ext cx="12952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6"/>
          <p:cNvGrpSpPr/>
          <p:nvPr/>
        </p:nvGrpSpPr>
        <p:grpSpPr>
          <a:xfrm>
            <a:off x="6172200" y="228600"/>
            <a:ext cx="2819520" cy="1571760"/>
            <a:chOff x="6172200" y="228600"/>
            <a:chExt cx="2819520" cy="1571760"/>
          </a:xfrm>
        </p:grpSpPr>
        <p:sp>
          <p:nvSpPr>
            <p:cNvPr id="342" name="AutoShape 7"/>
            <p:cNvSpPr/>
            <p:nvPr/>
          </p:nvSpPr>
          <p:spPr>
            <a:xfrm>
              <a:off x="6172200" y="228600"/>
              <a:ext cx="2819520" cy="1571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6172200" y="228600"/>
              <a:ext cx="2819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５步： 要更新公積金登記冊紀錄，在頁面中間輸入公積金登記冊的詳細資料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9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3"/>
          <p:cNvGrpSpPr/>
          <p:nvPr/>
        </p:nvGrpSpPr>
        <p:grpSpPr>
          <a:xfrm>
            <a:off x="5791320" y="4495680"/>
            <a:ext cx="2666880" cy="1490760"/>
            <a:chOff x="5791320" y="4495680"/>
            <a:chExt cx="2666880" cy="1490760"/>
          </a:xfrm>
        </p:grpSpPr>
        <p:sp>
          <p:nvSpPr>
            <p:cNvPr id="348" name="AutoShape 4"/>
            <p:cNvSpPr/>
            <p:nvPr/>
          </p:nvSpPr>
          <p:spPr>
            <a:xfrm>
              <a:off x="5791320" y="4495680"/>
              <a:ext cx="266688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5791320" y="4495680"/>
              <a:ext cx="266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６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更新公積金登記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7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Line 12"/>
          <p:cNvSpPr/>
          <p:nvPr/>
        </p:nvSpPr>
        <p:spPr>
          <a:xfrm flipH="1" flipV="1">
            <a:off x="2285640" y="4190760"/>
            <a:ext cx="3505320" cy="79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4"/>
          <p:cNvGraphicFramePr/>
          <p:nvPr/>
        </p:nvGraphicFramePr>
        <p:xfrm>
          <a:off x="5700600" y="3548160"/>
          <a:ext cx="360360" cy="12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0600" y="3548160"/>
                    <a:ext cx="3603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5"/>
          <p:cNvGraphicFramePr/>
          <p:nvPr/>
        </p:nvGraphicFramePr>
        <p:xfrm>
          <a:off x="5700600" y="3276720"/>
          <a:ext cx="360360" cy="12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00600" y="3276720"/>
                    <a:ext cx="3603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280" y="1371600"/>
          <a:ext cx="8839440" cy="3173400"/>
        </p:xfrm>
        <a:graphic>
          <a:graphicData uri="http://schemas.openxmlformats.org/drawingml/2006/table">
            <a:tbl>
              <a:tblPr/>
              <a:tblGrid>
                <a:gridCol w="2743200"/>
                <a:gridCol w="1981440"/>
                <a:gridCol w="411480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計劃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職員類別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交易類別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補助／津貼學校公積金計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教學職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公積金供款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已收股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職業退休計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非教學職員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公積金供款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已收股息／利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雜項金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01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強積金計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非教學職員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公積金供款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 indent="-18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新細明體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雜項金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新細明體"/>
                          <a:ea typeface="新細明體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1089"/>
          <p:cNvSpPr/>
          <p:nvPr/>
        </p:nvSpPr>
        <p:spPr>
          <a:xfrm>
            <a:off x="914400" y="523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員成本 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–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公積金登記冊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53280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公積金登記冊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Object 11"/>
          <p:cNvGraphicFramePr/>
          <p:nvPr/>
        </p:nvGraphicFramePr>
        <p:xfrm>
          <a:off x="5700600" y="3548160"/>
          <a:ext cx="360360" cy="12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00600" y="3548160"/>
                    <a:ext cx="3603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2"/>
          <p:cNvGraphicFramePr/>
          <p:nvPr/>
        </p:nvGraphicFramePr>
        <p:xfrm>
          <a:off x="5700600" y="3276720"/>
          <a:ext cx="360360" cy="12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00600" y="3276720"/>
                    <a:ext cx="3603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 Box 2"/>
          <p:cNvSpPr/>
          <p:nvPr/>
        </p:nvSpPr>
        <p:spPr>
          <a:xfrm>
            <a:off x="3581280" y="3657600"/>
            <a:ext cx="25146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已更新公積金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487692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600200" y="5410080"/>
            <a:ext cx="69343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67" name="Object 14"/>
          <p:cNvGraphicFramePr/>
          <p:nvPr/>
        </p:nvGraphicFramePr>
        <p:xfrm>
          <a:off x="6426360" y="5486400"/>
          <a:ext cx="393480" cy="20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6360" y="5486400"/>
                    <a:ext cx="39348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5"/>
          <p:cNvGraphicFramePr/>
          <p:nvPr/>
        </p:nvGraphicFramePr>
        <p:xfrm>
          <a:off x="5742000" y="5481720"/>
          <a:ext cx="393840" cy="20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42000" y="5481720"/>
                    <a:ext cx="3938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1600200" y="4800600"/>
            <a:ext cx="38088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3657600" y="5062680"/>
            <a:ext cx="2666880" cy="1490400"/>
            <a:chOff x="3657600" y="5062680"/>
            <a:chExt cx="2666880" cy="1490400"/>
          </a:xfrm>
        </p:grpSpPr>
        <p:sp>
          <p:nvSpPr>
            <p:cNvPr id="374" name="AutoShape 4"/>
            <p:cNvSpPr/>
            <p:nvPr/>
          </p:nvSpPr>
          <p:spPr>
            <a:xfrm>
              <a:off x="3657600" y="5062680"/>
              <a:ext cx="266688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5"/>
            <p:cNvSpPr/>
            <p:nvPr/>
          </p:nvSpPr>
          <p:spPr>
            <a:xfrm>
              <a:off x="3657600" y="50626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７步： 選擇要刪除的調整登記冊紀錄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9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1980720" y="518148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3886200" y="4605480"/>
            <a:ext cx="2666880" cy="1490400"/>
            <a:chOff x="3886200" y="4605480"/>
            <a:chExt cx="2666880" cy="1490400"/>
          </a:xfrm>
        </p:grpSpPr>
        <p:sp>
          <p:nvSpPr>
            <p:cNvPr id="381" name="AutoShape 4"/>
            <p:cNvSpPr/>
            <p:nvPr/>
          </p:nvSpPr>
          <p:spPr>
            <a:xfrm>
              <a:off x="3886200" y="4605480"/>
              <a:ext cx="266688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5"/>
            <p:cNvSpPr/>
            <p:nvPr/>
          </p:nvSpPr>
          <p:spPr>
            <a:xfrm>
              <a:off x="3886200" y="4605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８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刪除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Line 15"/>
          <p:cNvSpPr/>
          <p:nvPr/>
        </p:nvSpPr>
        <p:spPr>
          <a:xfrm flipH="1">
            <a:off x="2209320" y="5181480"/>
            <a:ext cx="16765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12"/>
          <p:cNvGraphicFramePr/>
          <p:nvPr/>
        </p:nvGraphicFramePr>
        <p:xfrm>
          <a:off x="0" y="0"/>
          <a:ext cx="8763120" cy="65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763120" cy="65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1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33520" y="411480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選擇的公積金登記冊紀錄已經被刪除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2057400" y="4724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業退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職業退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93" name="Object 13"/>
          <p:cNvGraphicFramePr/>
          <p:nvPr/>
        </p:nvGraphicFramePr>
        <p:xfrm>
          <a:off x="0" y="1371600"/>
          <a:ext cx="876312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71600"/>
                    <a:ext cx="87631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4"/>
          <p:cNvSpPr/>
          <p:nvPr/>
        </p:nvSpPr>
        <p:spPr>
          <a:xfrm flipV="1">
            <a:off x="2057400" y="198072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5"/>
          <p:cNvGrpSpPr/>
          <p:nvPr/>
        </p:nvGrpSpPr>
        <p:grpSpPr>
          <a:xfrm>
            <a:off x="3352680" y="2971800"/>
            <a:ext cx="2895840" cy="1523880"/>
            <a:chOff x="3352680" y="2971800"/>
            <a:chExt cx="2895840" cy="1523880"/>
          </a:xfrm>
        </p:grpSpPr>
        <p:sp>
          <p:nvSpPr>
            <p:cNvPr id="398" name="AutoShape 6"/>
            <p:cNvSpPr/>
            <p:nvPr/>
          </p:nvSpPr>
          <p:spPr>
            <a:xfrm>
              <a:off x="3352680" y="2971800"/>
              <a:ext cx="2895840" cy="15238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"/>
            <p:cNvSpPr/>
            <p:nvPr/>
          </p:nvSpPr>
          <p:spPr>
            <a:xfrm>
              <a:off x="3352680" y="2971800"/>
              <a:ext cx="2895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１步： 按職員代碼的超連結，檢視／修改所選職員的詳細公積金登記冊紀錄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9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105520" y="990360"/>
            <a:ext cx="914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Line 13"/>
          <p:cNvSpPr/>
          <p:nvPr/>
        </p:nvSpPr>
        <p:spPr>
          <a:xfrm flipH="1">
            <a:off x="2209320" y="3809880"/>
            <a:ext cx="11430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24120" y="1066680"/>
            <a:ext cx="228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615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22906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809880" y="4495680"/>
            <a:ext cx="16765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手增新的調整登記冊紀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8"/>
          <p:cNvSpPr/>
          <p:nvPr/>
        </p:nvSpPr>
        <p:spPr>
          <a:xfrm flipV="1">
            <a:off x="2514600" y="5943600"/>
            <a:ext cx="685800" cy="36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152280" y="6095880"/>
            <a:ext cx="2362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系統增新的登記冊紀錄</a:t>
            </a:r>
            <a:r>
              <a:rPr b="0" lang="zh-CN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>
            <a:off x="3733920" y="5105520"/>
            <a:ext cx="8380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1600200" y="5486400"/>
            <a:ext cx="6934320" cy="28908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1600200" y="5791320"/>
            <a:ext cx="6934320" cy="28872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22906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19"/>
          <p:cNvGrpSpPr/>
          <p:nvPr/>
        </p:nvGrpSpPr>
        <p:grpSpPr>
          <a:xfrm>
            <a:off x="0" y="0"/>
            <a:ext cx="8763120" cy="6567480"/>
            <a:chOff x="0" y="0"/>
            <a:chExt cx="8763120" cy="6567480"/>
          </a:xfrm>
        </p:grpSpPr>
        <p:pic>
          <p:nvPicPr>
            <p:cNvPr id="421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63120" cy="6567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22" name="Object 17"/>
            <p:cNvGraphicFramePr/>
            <p:nvPr/>
          </p:nvGraphicFramePr>
          <p:xfrm>
            <a:off x="1600200" y="3886200"/>
            <a:ext cx="6934320" cy="2506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3" name="Object 1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3886200"/>
                      <a:ext cx="693432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429000" y="1371600"/>
            <a:ext cx="2666880" cy="1490760"/>
            <a:chOff x="3429000" y="1371600"/>
            <a:chExt cx="2666880" cy="1490760"/>
          </a:xfrm>
        </p:grpSpPr>
        <p:sp>
          <p:nvSpPr>
            <p:cNvPr id="426" name="AutoShape 5"/>
            <p:cNvSpPr/>
            <p:nvPr/>
          </p:nvSpPr>
          <p:spPr>
            <a:xfrm>
              <a:off x="3429000" y="1371600"/>
              <a:ext cx="266688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3429000" y="1371600"/>
              <a:ext cx="266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２步：要增新調整登記冊紀錄，填寫頁面中間部分的公積金登記冊詳細資料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Rectangle 8"/>
          <p:cNvSpPr/>
          <p:nvPr/>
        </p:nvSpPr>
        <p:spPr>
          <a:xfrm>
            <a:off x="1523880" y="3886200"/>
            <a:ext cx="7086600" cy="22860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4800600" y="27432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4"/>
          <p:cNvGrpSpPr/>
          <p:nvPr/>
        </p:nvGrpSpPr>
        <p:grpSpPr>
          <a:xfrm>
            <a:off x="0" y="0"/>
            <a:ext cx="8763120" cy="6567480"/>
            <a:chOff x="0" y="0"/>
            <a:chExt cx="8763120" cy="6567480"/>
          </a:xfrm>
        </p:grpSpPr>
        <p:pic>
          <p:nvPicPr>
            <p:cNvPr id="433" name="Picture 1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763120" cy="6567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4" name="Object 16"/>
            <p:cNvGraphicFramePr/>
            <p:nvPr/>
          </p:nvGraphicFramePr>
          <p:xfrm>
            <a:off x="1600200" y="3886200"/>
            <a:ext cx="6934320" cy="2506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5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3886200"/>
                      <a:ext cx="693432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352680" y="4343400"/>
            <a:ext cx="2667240" cy="1490760"/>
            <a:chOff x="3352680" y="4343400"/>
            <a:chExt cx="2667240" cy="1490760"/>
          </a:xfrm>
        </p:grpSpPr>
        <p:sp>
          <p:nvSpPr>
            <p:cNvPr id="438" name="AutoShape 5"/>
            <p:cNvSpPr/>
            <p:nvPr/>
          </p:nvSpPr>
          <p:spPr>
            <a:xfrm>
              <a:off x="3352680" y="434340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3352680" y="4343400"/>
              <a:ext cx="266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３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增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增新調整登記冊紀錄 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8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2"/>
          <p:cNvSpPr/>
          <p:nvPr/>
        </p:nvSpPr>
        <p:spPr>
          <a:xfrm flipH="1">
            <a:off x="2133720" y="4876920"/>
            <a:ext cx="12189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615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增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23880" y="426708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新增公積金登記冊紀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895480" y="4648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447920" y="5486400"/>
            <a:ext cx="6933960" cy="4572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公積金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276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2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 flipH="1" flipV="1">
            <a:off x="1523160" y="990000"/>
            <a:ext cx="2667240" cy="6094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038480" y="1828800"/>
            <a:ext cx="4876920" cy="45828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新細明體"/>
                <a:ea typeface="新細明體"/>
              </a:rPr>
              <a:t>在系統根據所輸入搜尋條件查閱所有職員紀錄之前，系統會自動從教職員模組／教職員調配模組中收集新增新、修改或刪除的所有紀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7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581280" y="4910040"/>
            <a:ext cx="2667240" cy="1490760"/>
            <a:chOff x="3581280" y="4910040"/>
            <a:chExt cx="2667240" cy="1490760"/>
          </a:xfrm>
        </p:grpSpPr>
        <p:sp>
          <p:nvSpPr>
            <p:cNvPr id="452" name="AutoShape 6"/>
            <p:cNvSpPr/>
            <p:nvPr/>
          </p:nvSpPr>
          <p:spPr>
            <a:xfrm>
              <a:off x="3581280" y="4910040"/>
              <a:ext cx="266724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7"/>
            <p:cNvSpPr/>
            <p:nvPr/>
          </p:nvSpPr>
          <p:spPr>
            <a:xfrm>
              <a:off x="3581280" y="4910040"/>
              <a:ext cx="266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４步： 要更新登記冊紀錄，按登記日期的超連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 flipH="1">
            <a:off x="2590560" y="5638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1600200" y="1523880"/>
            <a:ext cx="6934320" cy="221004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0"/>
          <p:cNvSpPr/>
          <p:nvPr/>
        </p:nvSpPr>
        <p:spPr>
          <a:xfrm>
            <a:off x="2133720" y="3581280"/>
            <a:ext cx="457200" cy="1905120"/>
          </a:xfrm>
          <a:prstGeom prst="upArrow">
            <a:avLst>
              <a:gd name="adj1" fmla="val 50000"/>
              <a:gd name="adj2" fmla="val 10417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6095880" y="62532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頁面中間部分會顯示公積金登記冊詳細資料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 flipH="1">
            <a:off x="4647960" y="1219320"/>
            <a:ext cx="19047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600200" y="1600200"/>
            <a:ext cx="6934320" cy="20574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6172200" y="485640"/>
            <a:ext cx="2819520" cy="1571760"/>
            <a:chOff x="6172200" y="485640"/>
            <a:chExt cx="2819520" cy="1571760"/>
          </a:xfrm>
        </p:grpSpPr>
        <p:sp>
          <p:nvSpPr>
            <p:cNvPr id="464" name="AutoShape 5"/>
            <p:cNvSpPr/>
            <p:nvPr/>
          </p:nvSpPr>
          <p:spPr>
            <a:xfrm>
              <a:off x="6172200" y="485640"/>
              <a:ext cx="2819520" cy="1571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6172200" y="485640"/>
              <a:ext cx="2819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５步： 要更新公積金登記冊紀錄，在頁面中間輸入公積金登記冊的詳細資料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9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 flipH="1">
            <a:off x="4952520" y="10666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3581280" y="4419720"/>
            <a:ext cx="2667240" cy="1490400"/>
            <a:chOff x="3581280" y="4419720"/>
            <a:chExt cx="2667240" cy="1490400"/>
          </a:xfrm>
        </p:grpSpPr>
        <p:sp>
          <p:nvSpPr>
            <p:cNvPr id="471" name="AutoShape 4"/>
            <p:cNvSpPr/>
            <p:nvPr/>
          </p:nvSpPr>
          <p:spPr>
            <a:xfrm>
              <a:off x="3581280" y="4419720"/>
              <a:ext cx="2667240" cy="1490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5"/>
            <p:cNvSpPr/>
            <p:nvPr/>
          </p:nvSpPr>
          <p:spPr>
            <a:xfrm>
              <a:off x="3581280" y="4419720"/>
              <a:ext cx="266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６步： 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更新公積金登記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8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2"/>
          <p:cNvSpPr/>
          <p:nvPr/>
        </p:nvSpPr>
        <p:spPr>
          <a:xfrm flipH="1" flipV="1">
            <a:off x="2286000" y="3809880"/>
            <a:ext cx="22860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4597560" y="3187800"/>
          <a:ext cx="380880" cy="13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7560" y="3187800"/>
                    <a:ext cx="380880" cy="13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615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3581280" y="413064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已更新公積金登記冊紀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1523880" y="5486400"/>
            <a:ext cx="6934320" cy="38088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更新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3733560" y="4495680"/>
            <a:ext cx="68580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2"/>
          <p:cNvGraphicFramePr/>
          <p:nvPr/>
        </p:nvGraphicFramePr>
        <p:xfrm>
          <a:off x="6400800" y="5548320"/>
          <a:ext cx="393840" cy="20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5548320"/>
                    <a:ext cx="39384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615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600200" y="4419720"/>
            <a:ext cx="380880" cy="18288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"/>
          <p:cNvGrpSpPr/>
          <p:nvPr/>
        </p:nvGrpSpPr>
        <p:grpSpPr>
          <a:xfrm>
            <a:off x="3276720" y="4757760"/>
            <a:ext cx="2666880" cy="1490760"/>
            <a:chOff x="3276720" y="4757760"/>
            <a:chExt cx="2666880" cy="1490760"/>
          </a:xfrm>
        </p:grpSpPr>
        <p:sp>
          <p:nvSpPr>
            <p:cNvPr id="490" name="AutoShape 7"/>
            <p:cNvSpPr/>
            <p:nvPr/>
          </p:nvSpPr>
          <p:spPr>
            <a:xfrm>
              <a:off x="3276720" y="4757760"/>
              <a:ext cx="2666880" cy="149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3276720" y="475776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７步： 選擇要刪除的調整登記冊紀錄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14"/>
          <p:cNvSpPr/>
          <p:nvPr/>
        </p:nvSpPr>
        <p:spPr>
          <a:xfrm flipH="1">
            <a:off x="1980720" y="541008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615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5"/>
          <p:cNvGrpSpPr/>
          <p:nvPr/>
        </p:nvGrpSpPr>
        <p:grpSpPr>
          <a:xfrm>
            <a:off x="3276720" y="5062680"/>
            <a:ext cx="2666880" cy="957240"/>
            <a:chOff x="3276720" y="5062680"/>
            <a:chExt cx="2666880" cy="957240"/>
          </a:xfrm>
        </p:grpSpPr>
        <p:sp>
          <p:nvSpPr>
            <p:cNvPr id="497" name="AutoShape 6"/>
            <p:cNvSpPr/>
            <p:nvPr/>
          </p:nvSpPr>
          <p:spPr>
            <a:xfrm>
              <a:off x="3276720" y="5062680"/>
              <a:ext cx="2666880" cy="9572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7"/>
            <p:cNvSpPr/>
            <p:nvPr/>
          </p:nvSpPr>
          <p:spPr>
            <a:xfrm>
              <a:off x="3276720" y="50626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8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.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刪除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4"/>
          <p:cNvSpPr/>
          <p:nvPr/>
        </p:nvSpPr>
        <p:spPr>
          <a:xfrm flipH="1">
            <a:off x="2133360" y="5410080"/>
            <a:ext cx="11430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Object 10"/>
          <p:cNvGraphicFramePr/>
          <p:nvPr/>
        </p:nvGraphicFramePr>
        <p:xfrm>
          <a:off x="0" y="0"/>
          <a:ext cx="8534520" cy="655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3452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1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強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積金登記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強積金計劃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1828800" y="39625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80880" y="3352680"/>
            <a:ext cx="2971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選擇的公積金登記冊紀錄已經被刪除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2"/>
          <p:cNvGraphicFramePr/>
          <p:nvPr/>
        </p:nvGraphicFramePr>
        <p:xfrm>
          <a:off x="0" y="990720"/>
          <a:ext cx="85345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0720"/>
                    <a:ext cx="8534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Line 13"/>
          <p:cNvSpPr/>
          <p:nvPr/>
        </p:nvSpPr>
        <p:spPr>
          <a:xfrm flipV="1">
            <a:off x="1828800" y="152388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4"/>
          <p:cNvGrpSpPr/>
          <p:nvPr/>
        </p:nvGrpSpPr>
        <p:grpSpPr>
          <a:xfrm>
            <a:off x="7543800" y="5029200"/>
            <a:ext cx="1447560" cy="1447920"/>
            <a:chOff x="7543800" y="5029200"/>
            <a:chExt cx="1447560" cy="1447920"/>
          </a:xfrm>
        </p:grpSpPr>
        <p:sp>
          <p:nvSpPr>
            <p:cNvPr id="511" name="AutoShape 15"/>
            <p:cNvSpPr/>
            <p:nvPr/>
          </p:nvSpPr>
          <p:spPr>
            <a:xfrm flipV="1">
              <a:off x="7626240" y="5029200"/>
              <a:ext cx="1295280" cy="144792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7543800" y="503892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返回主目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4"/>
          <p:cNvGrpSpPr/>
          <p:nvPr/>
        </p:nvGrpSpPr>
        <p:grpSpPr>
          <a:xfrm>
            <a:off x="3886200" y="3733920"/>
            <a:ext cx="2666880" cy="1225440"/>
            <a:chOff x="3886200" y="3733920"/>
            <a:chExt cx="2666880" cy="1225440"/>
          </a:xfrm>
        </p:grpSpPr>
        <p:sp>
          <p:nvSpPr>
            <p:cNvPr id="142" name="AutoShape 5"/>
            <p:cNvSpPr/>
            <p:nvPr/>
          </p:nvSpPr>
          <p:spPr>
            <a:xfrm>
              <a:off x="3886200" y="3733920"/>
              <a:ext cx="2666880" cy="1225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3886200" y="3733920"/>
              <a:ext cx="266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１步：按左邊項目選單中的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職員成本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公積金登記冊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0"/>
          <p:cNvSpPr/>
          <p:nvPr/>
        </p:nvSpPr>
        <p:spPr>
          <a:xfrm>
            <a:off x="0" y="0"/>
            <a:ext cx="3581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搜尋公積金登記冊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6552720"/>
            <a:ext cx="2438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搜尋公積金登記冊</a:t>
            </a: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"/>
          <p:cNvGrpSpPr/>
          <p:nvPr/>
        </p:nvGrpSpPr>
        <p:grpSpPr>
          <a:xfrm>
            <a:off x="3505320" y="3048120"/>
            <a:ext cx="2666880" cy="1225440"/>
            <a:chOff x="3505320" y="3048120"/>
            <a:chExt cx="2666880" cy="1225440"/>
          </a:xfrm>
        </p:grpSpPr>
        <p:sp>
          <p:nvSpPr>
            <p:cNvPr id="149" name="AutoShape 4"/>
            <p:cNvSpPr/>
            <p:nvPr/>
          </p:nvSpPr>
          <p:spPr>
            <a:xfrm>
              <a:off x="3505320" y="3048120"/>
              <a:ext cx="2666880" cy="1225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"/>
            <p:cNvSpPr/>
            <p:nvPr/>
          </p:nvSpPr>
          <p:spPr>
            <a:xfrm>
              <a:off x="3505320" y="304812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２步：輸入搜尋準則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6"/>
          <p:cNvSpPr/>
          <p:nvPr/>
        </p:nvSpPr>
        <p:spPr>
          <a:xfrm>
            <a:off x="1523880" y="1066680"/>
            <a:ext cx="6934320" cy="152424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0"/>
            <a:ext cx="3581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搜尋公積金登記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4571640"/>
            <a:ext cx="75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搜尋公積金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Line 13"/>
          <p:cNvSpPr/>
          <p:nvPr/>
        </p:nvSpPr>
        <p:spPr>
          <a:xfrm flipV="1">
            <a:off x="4114800" y="2590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3"/>
          <p:cNvGrpSpPr/>
          <p:nvPr/>
        </p:nvGrpSpPr>
        <p:grpSpPr>
          <a:xfrm>
            <a:off x="2362320" y="4038480"/>
            <a:ext cx="2666880" cy="1225800"/>
            <a:chOff x="2362320" y="4038480"/>
            <a:chExt cx="2666880" cy="1225800"/>
          </a:xfrm>
        </p:grpSpPr>
        <p:sp>
          <p:nvSpPr>
            <p:cNvPr id="158" name="AutoShape 4"/>
            <p:cNvSpPr/>
            <p:nvPr/>
          </p:nvSpPr>
          <p:spPr>
            <a:xfrm>
              <a:off x="2362320" y="4038480"/>
              <a:ext cx="2666880" cy="12258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"/>
            <p:cNvSpPr/>
            <p:nvPr/>
          </p:nvSpPr>
          <p:spPr>
            <a:xfrm>
              <a:off x="2362320" y="40384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３步：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 。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0" y="0"/>
            <a:ext cx="3581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搜尋公積金登記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4956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搜尋公積金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3581280" y="32767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5"/>
          <p:cNvGrpSpPr/>
          <p:nvPr/>
        </p:nvGrpSpPr>
        <p:grpSpPr>
          <a:xfrm>
            <a:off x="1905120" y="1371600"/>
            <a:ext cx="3276360" cy="1523880"/>
            <a:chOff x="1905120" y="1371600"/>
            <a:chExt cx="3276360" cy="1523880"/>
          </a:xfrm>
        </p:grpSpPr>
        <p:sp>
          <p:nvSpPr>
            <p:cNvPr id="166" name="AutoShape 6"/>
            <p:cNvSpPr/>
            <p:nvPr/>
          </p:nvSpPr>
          <p:spPr>
            <a:xfrm>
              <a:off x="1905120" y="1371600"/>
              <a:ext cx="3276360" cy="15238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1905120" y="1371600"/>
              <a:ext cx="32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0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１步：按職員代碼的超連結，檢視／修改所選職員的詳細公積金登記冊紀錄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9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編修公積金登記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（補助／津貼學校公積金計劃）</a:t>
            </a: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800" y="54100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1981080" y="2895480"/>
            <a:ext cx="99072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7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0" y="0"/>
            <a:ext cx="58672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編修公積金登記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（補助／津貼學校公積金計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760" y="19047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</a:rPr>
              <a:t>補助／津貼學校公積金計劃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LOCAL USERS</cp:lastModifiedBy>
  <dcterms:modified xsi:type="dcterms:W3CDTF">2014-12-11T08:28:44Z</dcterms:modified>
  <cp:revision>501</cp:revision>
  <dc:subject/>
  <dc:title>School Management</dc:title>
</cp:coreProperties>
</file>